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6805-4D25-45E6-832E-8062BC1EC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4564-4EF5-4484-9C0B-70164BD1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AD1C-02E0-4C60-87B6-A7C4C0152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F684-D2C9-4830-A6C0-78E77EA2B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6BA91-A852-468F-8D10-40F5B2279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2693-FF93-4A7B-9F00-0EE833E8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48AF-7B94-46C9-B132-04420347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A2BA9-E567-4CD5-8B60-3E8CF46D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9C37-A439-4F37-B5E3-C70955F6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3E8C-0CCF-4A34-8614-459CF57E8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F9FFD-1756-42C6-9518-C462010C7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5442-CB27-421C-B3A5-B2D005836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2D15A-3DB8-4A3A-9A99-0AFEFBA8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7D07-67CF-4698-BE2C-495DBE77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47C6-C1C5-4A08-99FE-A3F002A3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54899-AA95-4DFF-9BDB-BF3664D44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6D46-A803-442E-8575-082807800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FFAF7-2CE8-466B-8A5F-5671B517D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325E0-D73A-4B27-AB8D-E5E79832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7A714-5877-4B70-8362-3A52318A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9663A-5A9A-46A6-B0C6-0086FB33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D3612-6793-436D-A7FC-6016DE3C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6E54-1D19-4B6E-A899-C6F7AA12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88690-00F0-4853-BC1D-D095B975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793E5-4F25-435D-B4AF-12AC1117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99614-6C4F-429D-B4B8-8A58F38A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0F1D2-495C-4B36-9330-6DE0BD1A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1AB3D-2A17-483B-98AD-AA705EED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6EC6D-48ED-40AC-A843-4FB71649E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1CBAA-0426-4962-AF53-4C55C98C2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52EEC-0470-4349-B0CF-DD3E2EB00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FA162-0927-4609-A909-BAB4A123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9E21E-9790-4145-BFC3-3B2E8242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8AAD-9185-4273-8550-E3F672E0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120F2-6B7F-4C38-964F-A5C2116FE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0F4F7-8CF8-4E01-A14F-1F328E53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6FF29-C837-4701-BD7B-D20D936C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B5F5E-8A9F-462D-9B4F-BC47F031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FAE2C-E08D-4269-9470-2DD079D5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75010-C1B2-4C14-9A5E-7CF95E86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858E0-7CB4-49B4-8C91-0D439BB6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BCC78-1F35-4AD3-BDA8-A939A9EED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422C6-7EAA-46D7-815B-7C1748BFD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0F47F-CD68-482D-935B-EC2EC3B22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1A67-1F81-4FC6-9738-CAE40E84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115C5-E0E0-4132-9C1F-3BD34CBB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9DDC9-2281-456D-9427-1A11EF29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760F7-48D9-438A-BE21-9D9BB34C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23937-7091-4B09-83EB-0246E053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6D551-4FA5-406B-8165-F49AD3BC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01806-A1E0-4C04-8814-4F8B10F6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85FCE-7D02-4B60-8E6E-504FEB5A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32DF8-BCEA-4ACF-800F-7D2EBC83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26950-5AB8-4D3D-AE32-A6A5B464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3F776-E6CB-4B6B-A50A-4F5F26FFA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B0FF-A776-4901-84F0-04426CAC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C18C0-20A7-4E0F-A3BF-718804D99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8BE4F-1045-444E-A9A2-561C6F664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A9006-9D83-41BF-A191-062B7D8A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93EC9-58B5-40D8-8AF4-ABDB547E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745FF-1422-4164-8FC6-064E08F8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A05F3-2981-421B-82F3-26402D98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45EB8-6CBE-4804-B504-D1487820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A5C51-AF63-4A1A-8977-F8F68326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0F10F-395B-45DE-A2DD-2D91943B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7C2A5-CB71-4A6D-AA94-64BF3460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9BBA-7695-4CDB-BDA5-E2198C3C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88949-CD1E-48CD-848B-AB73323C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4AA57-7215-453C-AEF8-6803E0D90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CF112-C2AA-46F0-AF13-14D1F5A0A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A3D9D-7EA9-4C53-A8E3-074027455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C51DF-432B-4BA5-AACA-658BC37F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58943-FCD7-4B21-B36C-4CCFB662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26111-9E45-40C4-A11B-7EDF237C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57A61-715D-442A-8B3B-56E9108E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E9B33-F58D-4A09-94A2-F3CAD3E8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FFF84-7038-4C62-9C1F-5C7EFC67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EAFC-66D8-4044-BC4A-52085E66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C75AF-B86A-4776-9460-6676041B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680BD-DFE5-4192-A82C-4174DC15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D41CA-7862-4B3E-B63F-37D0B3CC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F7AA7-F8B0-456A-B173-CDA70FDED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7DC99-1D78-4964-8179-FB96253C9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3421-4D93-47F7-A2F7-8A02B0FA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B69E5A-B705-443E-9C0F-48C196CAD4AF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68720F-FAD2-44BD-8D57-564E4516D5B5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A37E04-9253-4C61-B571-16355502BAF5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DE5117-6525-4BCD-B08B-2BD501664A90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92F25F-BF99-4D39-A18B-36317B2310C8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85B3C4-3131-48DF-8E0C-4020DC6847CA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399AE2-5CEB-4FAE-9B9E-09F2A9AF8818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FD4C24-9894-4C39-A1F3-47D5EB5D7FD7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3C734F-5D83-45B7-9E49-FE185349B420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E299A9-5D50-4EA0-8E7C-B6678DB3F315}" type="slidenum">
              <a:rPr b="0" lang="ms-MY" sz="1000" spc="-1" strike="noStrike">
                <a:solidFill>
                  <a:srgbClr val="34406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0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15A0E3-5099-4F2F-A487-864C7C38404B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CDBA14-6E72-432D-9613-9EF9E377FF32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0A5B5A-EE71-4BED-B067-169ED0D50EA8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54544B-EBE2-4809-BE82-8E2B3034FE3D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 Light"/>
              </a:rPr>
              <a:t>Special Issues in CKD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825120" y="4456080"/>
            <a:ext cx="7923240" cy="17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 Light"/>
              </a:rPr>
              <a:t>MODULE 4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1900" spc="-1" strike="noStrike">
                <a:solidFill>
                  <a:srgbClr val="000000"/>
                </a:solidFill>
                <a:latin typeface="Calibri Light"/>
              </a:rPr>
              <a:t>DR. CHING CHEN HUA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1900" spc="-1" strike="noStrike">
                <a:solidFill>
                  <a:srgbClr val="000000"/>
                </a:solidFill>
                <a:latin typeface="Calibri Light"/>
              </a:rPr>
              <a:t>HOSPITAL SULTANAH BAHIYAH, KEDAH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1900" spc="-1" strike="noStrike">
                <a:solidFill>
                  <a:srgbClr val="000000"/>
                </a:solidFill>
                <a:latin typeface="Calibri Light"/>
              </a:rPr>
              <a:t>MS. MANJULAA DEVI SUBRAMANIAM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1900" spc="-1" strike="noStrike">
                <a:solidFill>
                  <a:srgbClr val="000000"/>
                </a:solidFill>
                <a:latin typeface="Calibri Light"/>
              </a:rPr>
              <a:t>HOSPITAL KUALA LUMPUR, KUALA LUMPUR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06" name="Picture 3" descr=""/>
          <p:cNvPicPr/>
          <p:nvPr/>
        </p:nvPicPr>
        <p:blipFill>
          <a:blip r:embed="rId1"/>
          <a:stretch/>
        </p:blipFill>
        <p:spPr>
          <a:xfrm>
            <a:off x="7596360" y="27000"/>
            <a:ext cx="1512720" cy="2322360"/>
          </a:xfrm>
          <a:prstGeom prst="rect">
            <a:avLst/>
          </a:prstGeom>
          <a:ln w="0">
            <a:noFill/>
          </a:ln>
        </p:spPr>
      </p:pic>
      <p:sp>
        <p:nvSpPr>
          <p:cNvPr id="307" name="Slide Number Placeholder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0C7326-218A-441C-B5DB-94BDBB72D888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Foetal outcome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821880" y="165708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72800" indent="-1728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Preterm delivery was associated with: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57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100000"/>
              </a:lnSpc>
              <a:buClr>
                <a:srgbClr val="1cade4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baseline hypertension (OR, 3.42;95% CI 1.87 to 6.21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100000"/>
              </a:lnSpc>
              <a:buClr>
                <a:srgbClr val="1cade4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systemic disease (OR, 3.13; 95% CI 1.51 to 6.50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100000"/>
              </a:lnSpc>
              <a:buClr>
                <a:srgbClr val="1cade4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proteinuria (OR, 3.69; 95% CI 1.63 to 8.36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Preterm delivery was more frequent in patients with CKD stage 2 (31.2%) and stage 3/4 (75%) renal impairment compared with stage 1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The IUGR rates were 15%, 38.5%, or 42.9% in CKD stages 1, 2, and 3/4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58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Live infants outcomes born to women with mild renal injury (serum creatinine &lt;123 mol/L) were similar to the pregnant population as a whole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59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59. Wang F, et al. Kidney Blood Press Res. 2011;34(1):34-40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21986C-1BFA-40F6-90C6-8B75213B8943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Can CKD patient get pregnant?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821880" y="1846440"/>
            <a:ext cx="754380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Answer</a:t>
            </a:r>
            <a:r>
              <a:rPr b="1" lang="en-MY" sz="2800" spc="-1" strike="noStrike">
                <a:solidFill>
                  <a:srgbClr val="000000"/>
                </a:solidFill>
                <a:latin typeface="Calibri"/>
              </a:rPr>
              <a:t>: Individualised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Pregnancy may be considered in women with: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9, 57, 58, 59, 60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mild renal impairment (SCr &lt;124 µmol/L) and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blood pressure well controlled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 …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60. Piccoli GB, et al. Clin J Am Soc Nephrol. 2010;5(5):844-55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59DC99-E6A3-4644-95EC-12207E7B3BD6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2240" y="287280"/>
            <a:ext cx="758664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Can CKD patient get pregnant?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</a:rPr>
              <a:t>-2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821880" y="1846080"/>
            <a:ext cx="7543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Should be planned!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Taking into consideration the clinical status of the woman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With pre-conception review of medication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Early referral for combined specialist ca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ACEi and ARB should be avoided in pregnancy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Refer to </a:t>
            </a:r>
            <a:r>
              <a:rPr b="1" lang="en-MY" sz="2800" spc="-1" strike="noStrike">
                <a:solidFill>
                  <a:srgbClr val="000000"/>
                </a:solidFill>
                <a:latin typeface="Calibri"/>
              </a:rPr>
              <a:t>Appendix 4</a:t>
            </a: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 on United States Food and Drug Administration (FDA) Pharmaceutical Pregnancy Categories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165921-8FB3-4014-A7BD-E25462D88B90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Pre-Pregnancy Care (PPC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821880" y="1846440"/>
            <a:ext cx="785340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 set of healthcare and interventions given to women in their reproductive age before conception occur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56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nents of pre-pregnancy care: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56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reening for medical conditions and medical risk factor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agement and optimisation of medical conditions and risk factor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trition and supplementation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mily planning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56. Pre Pregnancy Care (PPC) (Available at www.myhealth.gov.my/en/prepregnancy-care-ppc/)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909191-F58B-47BA-974B-54453FD64DB1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CKD in pregnancy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8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9C5861-C966-47F9-A1A3-49E8AE49B84A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Picture 5" descr=""/>
          <p:cNvPicPr/>
          <p:nvPr/>
        </p:nvPicPr>
        <p:blipFill>
          <a:blip r:embed="rId1"/>
          <a:stretch/>
        </p:blipFill>
        <p:spPr>
          <a:xfrm>
            <a:off x="539640" y="1887480"/>
            <a:ext cx="8129520" cy="43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What to do if a CKD patient is already pregnant?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821880" y="2069640"/>
            <a:ext cx="7543800" cy="402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disciplinary care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ose monitoring of progression of pregnancy and, maternal and foetal complications 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 communication between nephrologist and obstetrician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74C8AA-A5B5-45AF-A116-9284547816C8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CKD in elderly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821880" y="1653840"/>
            <a:ext cx="754380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After the age of 40 years, GFR progressively declines at an average rate of 8 ml/min/1.73 m² per decade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The Australian Diabetes, Obesity and Lifestyle (AusDiab) study showed that more than one-third of people over the age of 65 years have an eGFR &lt;60 ml/min/1.73 m²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A cross sectional survey done in UK between 2003 - 2010 showed that around half of the population &gt;70 years of age now have an eGFR &lt;60 ml/min/1.73 m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Wide variability among individuals in the age-related fall in GFR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a. Chadban SJ, et al. J Am Soc Nephrol. 2003 Jul;14(7 Suppl 2):S131-8 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b. Aitken GR, et al. BMJ Open. 2014 Sep 29;4(9):e005480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031324-8083-4129-B65A-CE04F60FB06D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Content Placeholder 3" descr="Unfortunately we are unable to provide accessible alternative text for this. If you require assistance to access this image, please contact help@nature.com or the author"/>
          <p:cNvPicPr/>
          <p:nvPr/>
        </p:nvPicPr>
        <p:blipFill>
          <a:blip r:embed="rId1"/>
          <a:stretch/>
        </p:blipFill>
        <p:spPr>
          <a:xfrm>
            <a:off x="539640" y="1865160"/>
            <a:ext cx="8088480" cy="4084920"/>
          </a:xfrm>
          <a:prstGeom prst="rect">
            <a:avLst/>
          </a:prstGeom>
          <a:ln w="0">
            <a:noFill/>
          </a:ln>
        </p:spPr>
      </p:pic>
      <p:sp>
        <p:nvSpPr>
          <p:cNvPr id="357" name="TextBox 4"/>
          <p:cNvSpPr/>
          <p:nvPr/>
        </p:nvSpPr>
        <p:spPr>
          <a:xfrm>
            <a:off x="863640" y="6037200"/>
            <a:ext cx="718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ebert LA, et al. BH. Renoprotection: one or many therapies? Kidney Int. 2001 Apr;59(4):1211-2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Renal function deterioration rat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Elderly vs young population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21880" y="1846080"/>
            <a:ext cx="754380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he RR of end-stage disease is much lower for an elderly patient with CKD than for a younger patient with the same level of kidney function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Epidemiologic studies suggest that age-related loss of renal function may be associated with: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systemic hypertension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diabete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atherosclerotic diseas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one or more episodes of AKI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c. Weinstein JR, et al. Adv Chronic Kidney Dis. 2010 Jul;17(4):302-7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E8A245-C135-4AA2-8C85-894D0BCBAC93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Elderly vs young population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</a:rPr>
              <a:t>-2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821880" y="177300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It is important to recognise that the rate of decline in renal function is lower in the elderly and vast majority of patients with CKD do not progress to ESRD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For those elderly patients that do reach ESRD, recent reports indicate that dialysis may not provide a clear benefit over conservative care regarding survival and quality of life, especially in those patients with extensive co-morbidities. </a:t>
            </a: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(Smith C, et al. Nephron Clin Pract. 2003;95(2):c40-6)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Another study showed elderly with co-morbidities treated with dialysis had a median survival that was only 5 months longer from entry into CKD Stage 5 than patients who had undergone conservative kidney management. </a:t>
            </a: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(Chandna SM, et al. Nephrol Dial Transplant. 2011;26(5):1608-14)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302662-9DED-4812-AF92-FA334F8EF7C5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Learning objective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o learn about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Pregnancy in CKD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alibri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Is it safe to get pregnant?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alibri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What to do if one wants to get pregnant?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alibri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What to do if one already get pregnant?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CKD in elderly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alibri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When to refer to nephrologist?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alibri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When to start RRT?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Drugs and CKD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alibri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How to use the medication safely?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E7292A-EBA7-4D76-9A2A-81BFFF205812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Elderly vs young population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</a:rPr>
              <a:t>-3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821880" y="1773000"/>
            <a:ext cx="75438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Elderly patients with advanced CKD often have multiple extra-renal co-morbidities. The prospects of rehabilitation in such patients tend to be limited and the prognosis is often very poor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Renal replacement therapy often adds little in additional quantity of life and can pose huge additional burdens for patients and their caregivers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000000"/>
                </a:solidFill>
                <a:latin typeface="Calibri"/>
              </a:rPr>
              <a:t>An individualised approach is necessary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6B6947-0505-47E6-A45E-87EF7029E03A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CPG CKD2 says…..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73C55B-7B6C-4656-869F-844D70FE4C43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0" name="Picture 5" descr=""/>
          <p:cNvPicPr/>
          <p:nvPr/>
        </p:nvPicPr>
        <p:blipFill>
          <a:blip r:embed="rId1"/>
          <a:stretch/>
        </p:blipFill>
        <p:spPr>
          <a:xfrm>
            <a:off x="466560" y="2349360"/>
            <a:ext cx="8244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 Light"/>
              </a:rPr>
              <a:t>Medications in CKD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4ACDAF-A8CA-4F85-AB3B-86998EB7762A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Diagram 12" descr=""/>
          <p:cNvPicPr/>
          <p:nvPr/>
        </p:nvPicPr>
        <p:blipFill>
          <a:blip r:embed="rId1"/>
          <a:stretch/>
        </p:blipFill>
        <p:spPr>
          <a:xfrm>
            <a:off x="1371600" y="2341440"/>
            <a:ext cx="2554200" cy="2492640"/>
          </a:xfrm>
          <a:prstGeom prst="rect">
            <a:avLst/>
          </a:prstGeom>
          <a:ln w="0">
            <a:noFill/>
          </a:ln>
        </p:spPr>
      </p:pic>
      <p:pic>
        <p:nvPicPr>
          <p:cNvPr id="374" name="Diagram 13" descr=""/>
          <p:cNvPicPr/>
          <p:nvPr/>
        </p:nvPicPr>
        <p:blipFill>
          <a:blip r:embed="rId2"/>
          <a:stretch/>
        </p:blipFill>
        <p:spPr>
          <a:xfrm>
            <a:off x="3797280" y="1560600"/>
            <a:ext cx="4249800" cy="3902040"/>
          </a:xfrm>
          <a:prstGeom prst="rect">
            <a:avLst/>
          </a:prstGeom>
          <a:ln w="0">
            <a:noFill/>
          </a:ln>
        </p:spPr>
      </p:pic>
      <p:sp>
        <p:nvSpPr>
          <p:cNvPr id="375" name="Straight Connector 15"/>
          <p:cNvSpPr/>
          <p:nvPr/>
        </p:nvSpPr>
        <p:spPr>
          <a:xfrm flipV="1">
            <a:off x="3692520" y="1951200"/>
            <a:ext cx="1471680" cy="1163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Straight Connector 17" descr=""/>
          <p:cNvPicPr/>
          <p:nvPr/>
        </p:nvPicPr>
        <p:blipFill>
          <a:blip r:embed="rId3"/>
          <a:stretch/>
        </p:blipFill>
        <p:spPr>
          <a:xfrm>
            <a:off x="3359160" y="4151160"/>
            <a:ext cx="1822320" cy="1659240"/>
          </a:xfrm>
          <a:prstGeom prst="rect">
            <a:avLst/>
          </a:prstGeom>
          <a:ln w="0">
            <a:noFill/>
          </a:ln>
        </p:spPr>
      </p:pic>
      <p:sp>
        <p:nvSpPr>
          <p:cNvPr id="377" name="Slide Number Placeholder 26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118360-D358-460E-94BC-6C92B30F7D99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Box 27"/>
          <p:cNvSpPr/>
          <p:nvPr/>
        </p:nvSpPr>
        <p:spPr>
          <a:xfrm>
            <a:off x="5140440" y="5445000"/>
            <a:ext cx="2554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RUG-INDUCED KIDNEY INJU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Medication use in CKD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Medications (drugs) in CKD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821880" y="177336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1000"/>
          </a:bodyPr>
          <a:p>
            <a:pPr marL="158760" indent="-1587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tients with CKD has high pill burden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58760" indent="-1587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ugs also are a common source of organ injury e.g. kidney injury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58760" indent="-1587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 ALL medications can be used in CKD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58760" indent="-1587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 ALL medications are suitable to be used throughout all stages of CKD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58760" indent="-1587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ew medications regularly, in terms of suitability and appropriate dose adjustment to current renal function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58760" indent="-1587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ew non-prescription medications especially herbal preparations (discontinue aristolochic acid-containing preparations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58760" indent="-1587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981005-B19E-456C-AAB0-B1048036F4C5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6560" y="1917360"/>
            <a:ext cx="765684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174600" indent="-174600">
              <a:lnSpc>
                <a:spcPct val="85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istolochic acid-containing preparations must be reviewed.</a:t>
            </a: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84" name="Content Placeholder 3" descr=""/>
          <p:cNvPicPr/>
          <p:nvPr/>
        </p:nvPicPr>
        <p:blipFill>
          <a:blip r:embed="rId1"/>
          <a:srcRect l="0" t="21753" r="0" b="21753"/>
          <a:stretch/>
        </p:blipFill>
        <p:spPr>
          <a:xfrm>
            <a:off x="611280" y="3432240"/>
            <a:ext cx="3556080" cy="22143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"/>
          <p:cNvPicPr/>
          <p:nvPr/>
        </p:nvPicPr>
        <p:blipFill>
          <a:blip r:embed="rId2"/>
          <a:stretch/>
        </p:blipFill>
        <p:spPr>
          <a:xfrm>
            <a:off x="4214880" y="2865600"/>
            <a:ext cx="4219560" cy="3227400"/>
          </a:xfrm>
          <a:prstGeom prst="rect">
            <a:avLst/>
          </a:prstGeom>
          <a:ln w="0">
            <a:noFill/>
          </a:ln>
        </p:spPr>
      </p:pic>
      <p:sp>
        <p:nvSpPr>
          <p:cNvPr id="386" name="Title 1"/>
          <p:cNvSpPr/>
          <p:nvPr/>
        </p:nvSpPr>
        <p:spPr>
          <a:xfrm>
            <a:off x="82224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Medications (drugs) in CKD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</a:rPr>
              <a:t>-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21880" y="18900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Commonly encountered nephrotoxic agent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B521A5-2C45-4CE5-A18A-9527E1F86277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9" name="Content Placeholder 6" descr=""/>
          <p:cNvPicPr/>
          <p:nvPr/>
        </p:nvPicPr>
        <p:blipFill>
          <a:blip r:embed="rId1"/>
          <a:srcRect l="-2539" t="3872" r="-3760" b="0"/>
          <a:stretch/>
        </p:blipFill>
        <p:spPr>
          <a:xfrm>
            <a:off x="725400" y="1670040"/>
            <a:ext cx="768348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ACEIs or ARBs in CKD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821880" y="1767960"/>
            <a:ext cx="7543800" cy="46134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EIs and ARBs are the mainstay treatment in  delaying CKD progression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on complications seen are hyperkalaemia and AKI and, these are exacerbated by certain conditions e.g. hypovolemic state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vention of ACEi/ARB-induced adverse effects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itiate therapy with low doses and gradually titrate upward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itor kidney function, SCr and serum potassium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op if Scr rise &gt;30% from baseline or ….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void using high dose concomitant diuretics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D3CC53-9FF9-4A05-B532-ABD858F329E1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NSAIDs in CKD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chanisms of kidney injury by NSAIDs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KI from “pre-renal” or ATN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stitial nephriti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phrotic syndrome (minimal change disease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rease kidney potassium excretion → hyperkalemia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rease sodium excretion → hypertension, oedema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828875-D0EA-4CC3-8A3F-8BD8BD54E681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NSAIDs in CKD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</a:rPr>
              <a:t>-2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821880" y="1846440"/>
            <a:ext cx="75438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flicting evidence of association between chronic NSAIDs, aspirin and paracetamol use and the development of CKD.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void NSAID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[e.g. mefenamic acid, diclofenac acid, ibuprofen, naproxen, indomethacin, ketoprofen, salicylic acid (high dose)], including cyclooxygenase-2 Inhibitors (e.g. meloxicam, celecoxib and etoricoxib)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se therapies other than NSAID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.g. paracetamol,  opioid analgesics, etc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0A9CEB-415E-4224-8CD5-BFA28701AD33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Introduction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821880" y="1846080"/>
            <a:ext cx="7543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6000"/>
          </a:bodyPr>
          <a:p>
            <a:pPr marL="167400" indent="-1674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Pregnant mother with CKD = high risk pregnancy regardless of CKD stages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57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67400" indent="-1674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the risks begin at CKD stage I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67400" indent="-1674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67400" indent="-1674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Predictors of risk or adverse maternal-foetal outcomes: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57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67400" indent="-1674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CKD stage - increased with more advanced stage of CKD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67400" indent="-1674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baseline hypertension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67400" indent="-1674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baseline proteinuria (&gt;1 g/d)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67400" indent="-1674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presence of systemic diseas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67400" indent="-1674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67400" indent="-167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57. Piccoli GB, et al. J Am Soc Nephrol. 2015;26(8):2011-22</a:t>
            </a: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Iodinated Contrast in CKD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821880" y="1773360"/>
            <a:ext cx="75438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Risk factors</a:t>
            </a:r>
            <a:r>
              <a:rPr b="1" lang="en-US" sz="2400" spc="-1" strike="noStrike" baseline="30000">
                <a:solidFill>
                  <a:srgbClr val="404040"/>
                </a:solidFill>
                <a:latin typeface="Calibri"/>
              </a:rPr>
              <a:t>9</a:t>
            </a: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Pre-existing renal impairment (SCr ≥132 μmol/L or an eGFR &lt;60 ml/1.73 m</a:t>
            </a:r>
            <a:r>
              <a:rPr b="0" lang="en-MY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Volume depletion (e.g. nephrotic syndrome, decompensated liver cirrhosis)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DM     ◌ CCF    ◌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e &gt;75 years     </a:t>
            </a: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◌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emia (HCT &lt;39% in men, &lt;36% in women)     </a:t>
            </a: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◌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ou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gh osmolality contrast agents, large or repeated doses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current use of NSAIDs or RAAS-antagonists,  metformin and high dose diuretic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thogenesi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Direct tubular toxicit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nal ischemia (osmotic diuresis)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828D7B-867D-4264-AC05-32B20E508E0D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Risk mitigation strategies to avoid contrast-induced AKI</a:t>
            </a:r>
            <a:r>
              <a:rPr b="1" lang="en-MY" sz="4800" spc="-1" strike="noStrike" baseline="30000">
                <a:solidFill>
                  <a:srgbClr val="000000"/>
                </a:solidFill>
                <a:latin typeface="Calibri Light"/>
              </a:rPr>
              <a:t>9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821880" y="1846080"/>
            <a:ext cx="7543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8000"/>
          </a:bodyPr>
          <a:p>
            <a:pPr marL="171000" indent="-171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Avoid radio-contrast agents in high risk patients if possible.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1000" indent="-171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Consider an alternative imaging study e.g. ultrasound, non-contrasted computerised tomography scan or magnetic resonance imaging.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1000" indent="-171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Gadolinium-based MRI should be avoided in patients with advanced renal failure due to increased risk of nephrogenic systemic fibrosis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1000" indent="-171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Use isotonic saline peri-procedur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1000" indent="-171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There is insufficient evidence to support the use of N-acetylcysteine and sodium bicarbonate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1000" indent="-171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Use non-ionic contrast media with low osmolarity (e.g. ioversol and iopamidol) or iso-osmolarity (e.g. iodixanol)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1000" indent="-171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Use the lowest dose of contrast possible and avoid repeated studies within 48 hours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1000" indent="-171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07D09D-1DFC-4831-B7A7-FDBE63634A42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Proton Pump Inhibitors (PPI) in CKD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821880" y="1846080"/>
            <a:ext cx="7543800" cy="44622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7000"/>
          </a:bodyPr>
          <a:p>
            <a:pPr lvl="1" marL="169200" indent="-1692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Use of proton pump inhibitors (PPI) has been shown to significantly increase the risk of developing CKD (RR/OR range of 1.10 to 1.50)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13-15 </a:t>
            </a: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and progression of CKD (HR between 1.26 to 1.32)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15-16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169200" indent="-1692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he risk correlates with cumulative dose of exposure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14-16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169200" indent="-1692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However, this association was not evident with cumulative dose of H</a:t>
            </a:r>
            <a:r>
              <a:rPr b="0" lang="en-MY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-blocker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16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169200" indent="-1692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Avoid long-term PPI use unless with clear indication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87480" indent="-874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41B396-DA0A-43B3-A64C-5784D1897D85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21880" y="-27360"/>
            <a:ext cx="754380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Drug dosing adjustment in CKD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9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17DB8F-A3B1-401E-9B3B-15D55BFDAA08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395280" y="1008000"/>
          <a:ext cx="8353440" cy="5251680"/>
        </p:xfrm>
        <a:graphic>
          <a:graphicData uri="http://schemas.openxmlformats.org/drawingml/2006/table">
            <a:tbl>
              <a:tblPr/>
              <a:tblGrid>
                <a:gridCol w="1670040"/>
                <a:gridCol w="1671480"/>
                <a:gridCol w="1670400"/>
                <a:gridCol w="1671480"/>
                <a:gridCol w="1670040"/>
              </a:tblGrid>
              <a:tr h="525240">
                <a:tc>
                  <a:txBody>
                    <a:bodyPr lIns="68760" rIns="68760" tIns="34200" bIns="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ru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lIns="68760" rIns="6876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rmal dos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lIns="68760" rIns="6876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ld (GFR 60 - 90 ml/min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lIns="68760" rIns="6876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derate (GF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0 - 59 ml/min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  <a:tc>
                  <a:txBody>
                    <a:bodyPr lIns="68760" rIns="6876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vere (GF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&lt;30 ml/min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cade4"/>
                    </a:solidFill>
                  </a:tcPr>
                </a:tc>
              </a:tr>
              <a:tr h="297000">
                <a:tc>
                  <a:txBody>
                    <a:bodyPr lIns="68760" rIns="68760" tIns="34200" bIns="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for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68760" rIns="6876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 - 1000 mg B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68760" rIns="6876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adjustm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68760" rIns="6876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- 45: 50%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68760" rIns="6876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oi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  <a:tr h="297000">
                <a:tc>
                  <a:txBody>
                    <a:bodyPr lIns="68760" rIns="68760" tIns="34200" bIns="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liclazide </a:t>
                      </a:r>
                      <a:r>
                        <a:rPr b="1" lang="en-US" sz="15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#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80 - 160 mg B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 grid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No dosage adjustment necessar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34200" bIns="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ontraindicat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28080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Sitagliptin </a:t>
                      </a:r>
                      <a:r>
                        <a:rPr b="1" lang="en-MY" sz="1500" spc="-1" strike="noStrike">
                          <a:solidFill>
                            <a:srgbClr val="ff0000"/>
                          </a:solidFill>
                          <a:latin typeface="Calibri"/>
                          <a:ea typeface="SimSun"/>
                        </a:rPr>
                        <a:t>#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0 mg O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30 - 50: 50%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25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  <a:tr h="488520">
                <a:tc>
                  <a:txBody>
                    <a:bodyPr lIns="51480" rIns="514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Vildagliptin</a:t>
                      </a:r>
                      <a:r>
                        <a:rPr b="1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 </a:t>
                      </a:r>
                      <a:r>
                        <a:rPr b="1" lang="en-MY" sz="1500" spc="-1" strike="noStrike">
                          <a:solidFill>
                            <a:srgbClr val="ff0000"/>
                          </a:solidFill>
                          <a:latin typeface="Calibri"/>
                          <a:ea typeface="SimSun"/>
                        </a:rPr>
                        <a:t>#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50 mg OD - B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 </a:t>
                      </a: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50 - 59: 10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&lt;50: limited da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(limited data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652320">
                <a:tc>
                  <a:txBody>
                    <a:bodyPr lIns="68760" rIns="68760" tIns="34200" bIns="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paglifloz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5 - 10 mg O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 rowSpan="3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No dosage adjustment necessar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68760" rIns="6876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oi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68760" rIns="68760" tIns="34200" bIns="34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oi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  <a:tr h="488520">
                <a:tc>
                  <a:txBody>
                    <a:bodyPr lIns="51480" rIns="5148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anaglifloz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0 - 300 mg O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45 - 60: 100 mg O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&lt;45: Avoi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voi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431640">
                <a:tc>
                  <a:txBody>
                    <a:bodyPr lIns="51480" rIns="5148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Empaglifloz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 - 25 mg O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&lt;45: Avoi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voi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  <a:tr h="732600">
                <a:tc>
                  <a:txBody>
                    <a:bodyPr lIns="51480" rIns="5148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moxicillin + Clavulanic Acid (Augmentin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625 mg q8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 grid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No dosage adjustment necessary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- 30: q12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10: q24h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976680">
                <a:tc>
                  <a:txBody>
                    <a:bodyPr lIns="51480" rIns="51480" tIns="0" bIns="0" anchor="ctr">
                      <a:noAutofit/>
                    </a:bodyPr>
                    <a:p>
                      <a:pPr algn="just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lfamethoxazole + Trimethoprim (TMP)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0 mg q12h o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20 mg TMP/kg/day in divided doses q6h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 gridSpan="2"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0 mg q12h or 15 - 20 mg TMP/kg/day in divided doses q6h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1480" rIns="514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- 30: 50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15: 50% q12 - 24h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1480" marR="51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3f5"/>
                    </a:solidFill>
                  </a:tcPr>
                </a:tc>
              </a:tr>
            </a:tbl>
          </a:graphicData>
        </a:graphic>
      </p:graphicFrame>
      <p:sp>
        <p:nvSpPr>
          <p:cNvPr id="411" name="TextBox 2"/>
          <p:cNvSpPr/>
          <p:nvPr/>
        </p:nvSpPr>
        <p:spPr>
          <a:xfrm>
            <a:off x="865080" y="6381720"/>
            <a:ext cx="68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alibri"/>
              </a:rPr>
              <a:t>#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- GFR estimated based on CKD-Epi equ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Estimation of renal function for drug dosing in CKD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821880" y="1927080"/>
            <a:ext cx="754380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ockcroft-Gault equation has been traditionally used for drug dosing based on creatinine clearance (CrCl)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KD-EPI equation is also used for drug dosing based on eGFR especially for newer generation drugs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stimate of renal function (i.e. CrCl vs eGFR) used for drug dosing adjustment should follow the United States Food and Drug Administrative(USFDA) or European Medicines Agency(EMA)-approved product labeling of that specific drug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ED1D0E-2E74-462D-B4CA-73C4A5062476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8000" spc="-1" strike="noStrike">
                <a:solidFill>
                  <a:srgbClr val="000000"/>
                </a:solidFill>
                <a:latin typeface="Calibri Light"/>
              </a:rPr>
              <a:t>Thank you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F57E82-E73A-49C7-ACAB-6BB217E5DE6A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7" name="Picture 3" descr=""/>
          <p:cNvPicPr/>
          <p:nvPr/>
        </p:nvPicPr>
        <p:blipFill>
          <a:blip r:embed="rId1"/>
          <a:stretch/>
        </p:blipFill>
        <p:spPr>
          <a:xfrm>
            <a:off x="7596360" y="27000"/>
            <a:ext cx="151272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What are the adverse outcomes?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22240" y="1846440"/>
            <a:ext cx="370368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TERNAL OUTCOM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822240" y="2583000"/>
            <a:ext cx="37036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8000"/>
          </a:bodyPr>
          <a:p>
            <a:pPr marL="171000" indent="-171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gestational hypertens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1000" indent="-171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pre-eclampsia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1000" indent="-171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eclampsia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1000" indent="-171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new onset or worsening of proteinuria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1000" indent="-171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worsening of renal func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1000" indent="-171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Caesarean deliver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1000" indent="-171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maternal death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1000" indent="-171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3800" y="1846440"/>
            <a:ext cx="370188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Calibri"/>
              </a:rPr>
              <a:t>FOETAL OUTCOM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663800" y="2583000"/>
            <a:ext cx="37018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premature birth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intra-uterine growth retarda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small-for-gestational ag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low birth weigh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still birth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neonatal mortalit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Slide Number Placeholder 6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E6D453-5FEB-4920-A700-9D1751B665AA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Risk of adverse pregnancy outcomes in women with CKD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orino-Cagliari Observational Study (TOCOS)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57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631800" indent="-4572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600" spc="-1" strike="noStrike">
                <a:solidFill>
                  <a:srgbClr val="000000"/>
                </a:solidFill>
                <a:latin typeface="Calibri"/>
              </a:rPr>
              <a:t>assessed whether the risk for adverse pregnancy outcomes is associated with CKD 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lvl="1" marL="631800" indent="-4572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compared 504 pregnancies in women with CKD with 836 low-risk pregnancies in women without CKD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631800" indent="-4572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used hypertension, proteinuria (0.1 g/d), systemic disease and CKD stage (at referral) as baseline assessment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051F73-65EE-4171-9478-3EAB1103B11F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Risk of adverse pregnancy outcomes in women with CKD</a:t>
            </a:r>
            <a:r>
              <a:rPr b="1" lang="en-MY" sz="2200" spc="-1" strike="noStrike">
                <a:solidFill>
                  <a:srgbClr val="000000"/>
                </a:solidFill>
                <a:latin typeface="Calibri Light"/>
              </a:rPr>
              <a:t>-2</a:t>
            </a:r>
            <a:endParaRPr b="0" lang="en-US" sz="2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7EA011-733F-4AFD-925C-E6C465DE4871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Picture 6" descr=""/>
          <p:cNvPicPr/>
          <p:nvPr/>
        </p:nvPicPr>
        <p:blipFill>
          <a:blip r:embed="rId1"/>
          <a:stretch/>
        </p:blipFill>
        <p:spPr>
          <a:xfrm>
            <a:off x="395280" y="1617840"/>
            <a:ext cx="8424720" cy="49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Risk of adverse pregnancy outcomes in women with CKD</a:t>
            </a:r>
            <a:r>
              <a:rPr b="1" lang="en-MY" sz="2200" spc="-1" strike="noStrike">
                <a:solidFill>
                  <a:srgbClr val="000000"/>
                </a:solidFill>
                <a:latin typeface="Calibri Light"/>
              </a:rPr>
              <a:t>-3</a:t>
            </a:r>
            <a:endParaRPr b="0" lang="en-US" sz="2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45F173-5695-49A9-BCAD-B3D9A8C28255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7" name="Picture 6" descr=""/>
          <p:cNvPicPr/>
          <p:nvPr/>
        </p:nvPicPr>
        <p:blipFill>
          <a:blip r:embed="rId1"/>
          <a:stretch/>
        </p:blipFill>
        <p:spPr>
          <a:xfrm>
            <a:off x="395280" y="1660680"/>
            <a:ext cx="828036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Risk of adverse pregnancy outcomes in women with CKD</a:t>
            </a:r>
            <a:r>
              <a:rPr b="1" lang="en-MY" sz="2200" spc="-1" strike="noStrike">
                <a:solidFill>
                  <a:srgbClr val="000000"/>
                </a:solidFill>
                <a:latin typeface="Calibri Light"/>
              </a:rPr>
              <a:t>-4</a:t>
            </a:r>
            <a:endParaRPr b="0" lang="en-US" sz="2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E2E9B0-C5EB-4A6D-95DC-55614A31EB90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0" name="Picture 1" descr=""/>
          <p:cNvPicPr/>
          <p:nvPr/>
        </p:nvPicPr>
        <p:blipFill>
          <a:blip r:embed="rId1"/>
          <a:stretch/>
        </p:blipFill>
        <p:spPr>
          <a:xfrm>
            <a:off x="212760" y="1773360"/>
            <a:ext cx="8763120" cy="4581360"/>
          </a:xfrm>
          <a:prstGeom prst="rect">
            <a:avLst/>
          </a:prstGeom>
          <a:ln w="0">
            <a:noFill/>
          </a:ln>
        </p:spPr>
      </p:pic>
      <p:sp>
        <p:nvSpPr>
          <p:cNvPr id="331" name="TextBox 2"/>
          <p:cNvSpPr/>
          <p:nvPr/>
        </p:nvSpPr>
        <p:spPr>
          <a:xfrm>
            <a:off x="468360" y="6413400"/>
            <a:ext cx="741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Baseline risk” for adverse pregnancy-related outcomes linked to CK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Maternal outcome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821880" y="1699920"/>
            <a:ext cx="778212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Rate of renal function deterioration and worsening of proteinuria during pregnancy correlates significantly with CKD stages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732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Renal function deteriorates more in CKD stage 3/4 compared with stage 2 (60% vs 14.3%)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58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732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Doubling of proteinuria as CKD stage progresses are 20.5%, 86.5% and 70% in stage 1, 3 and 4 - 5 respectively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57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732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The risk for adverse outcomes increased across stages (for stage 1 vs stages 4 - 5):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57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532800" indent="-1774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general” combined outcome, 34.1% vs 90.0%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32800" indent="-1774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severe” combined outcome, 21.4% vs 80.0%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32800" indent="-17748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58. Alsuwaida A, et al. J Matern Fetal Neonatal Med. 2011;24(12):1432-6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32800" indent="-177480">
              <a:lnSpc>
                <a:spcPct val="100000"/>
              </a:lnSpc>
              <a:buClr>
                <a:srgbClr val="1cade4"/>
              </a:buClr>
              <a:buFont typeface="Calibri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BAF8F2-3EDD-417A-95E2-3CD524E9AEBF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24T09:53:13Z</dcterms:created>
  <dc:creator>user</dc:creator>
  <dc:description/>
  <dc:language>en-US</dc:language>
  <cp:lastModifiedBy>Dr. Mohd. Aminuddin</cp:lastModifiedBy>
  <dcterms:modified xsi:type="dcterms:W3CDTF">2019-05-02T03:51:27Z</dcterms:modified>
  <cp:revision>227</cp:revision>
  <dc:subject/>
  <dc:title>SCREENING &amp; DIAGNOSIS</dc:title>
</cp:coreProperties>
</file>